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6D1-C6AE-4987-9920-FC1CC097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5D8-4002-4DBF-86C2-BB98C7A6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747-C390-4015-B5FF-5E183A00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C0A-B809-47F2-BEC7-00751CA2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6FF-E2B1-4BF1-A214-260A480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45DE-08DB-480F-9899-FB5DCF9E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2381-49D1-429C-AF2D-18A64CD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7B45-842A-4315-A68D-9F19EE6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A2A0-EC4F-47BB-960B-69179D2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FCEA-A0C2-4A5B-A241-4BD611BB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1D7A-FA7D-4FDE-BE05-AE50BF4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E42-0167-4518-B33A-43665B5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C8E6-47B5-492F-842A-2B9D7D7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C5A0-22F8-4A5E-8EFB-14FC692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5652-CD9E-4ABD-9707-3EE4045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E15A-204F-4DA0-BDCB-10868AA7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7477-58BE-4F9A-85E6-5E9D5469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C8A-92B1-4A3D-968F-B6C25B1A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B59-D0EE-4B91-B405-FE90319A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2F9-0BD6-44D9-B676-955F1D86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496-40DB-471D-BC2D-6B35102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DF4-B0BC-44BE-B465-1414969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489-FADB-43C6-A2B0-161F601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8B9-9E79-451A-BA2F-CDB31EC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757-76E2-4061-B82C-11EA23715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3BC-78BA-4AA3-8205-4E744ABB6B5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UXIN Biogas Plant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 6 and 10 m3 family-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8627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gester is 2.4m deep, 2.8m in diameter and 6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. The gas-holder is 1.6 m in diameter, 0.6 m high and  1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Drawing1-6m3"/>
          <p:cNvPicPr/>
          <p:nvPr/>
        </p:nvPicPr>
        <p:blipFill>
          <a:blip r:embed="rId1"/>
          <a:stretch/>
        </p:blipFill>
        <p:spPr>
          <a:xfrm>
            <a:off x="1258920" y="1484280"/>
            <a:ext cx="7058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. Main advantag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ng with the fixed dome biogas plant, the PUXIN biogas plant has the following distinct 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nd quick to be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s product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maint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Easy and quick to be bui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working mason through one day’s study is able to build the PUXIN Biogas Plant with 100% success 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ion of a PUXIN Biogas Plant can be completed within 48 h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he process to build PUXIN biogas plant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02"/>
          <p:cNvPicPr/>
          <p:nvPr/>
        </p:nvPicPr>
        <p:blipFill>
          <a:blip r:embed="rId1"/>
          <a:stretch/>
        </p:blipFill>
        <p:spPr>
          <a:xfrm>
            <a:off x="147636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04"/>
          <p:cNvPicPr/>
          <p:nvPr/>
        </p:nvPicPr>
        <p:blipFill>
          <a:blip r:embed="rId2"/>
          <a:stretch/>
        </p:blipFill>
        <p:spPr>
          <a:xfrm>
            <a:off x="521964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2"/>
          <p:cNvPicPr/>
          <p:nvPr/>
        </p:nvPicPr>
        <p:blipFill>
          <a:blip r:embed="rId3"/>
          <a:stretch/>
        </p:blipFill>
        <p:spPr>
          <a:xfrm>
            <a:off x="1476360" y="393372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7"/>
          <p:cNvPicPr/>
          <p:nvPr/>
        </p:nvPicPr>
        <p:blipFill>
          <a:blip r:embed="rId4"/>
          <a:stretch/>
        </p:blipFill>
        <p:spPr>
          <a:xfrm>
            <a:off x="5292720" y="4005360"/>
            <a:ext cx="2720880" cy="2017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1549800" y="3499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Dig a hole in the g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5005440" y="3378240"/>
            <a:ext cx="288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Cast the basement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mble the stomach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616500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Assemble the vault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222880" y="61650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Cast the digester stom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0" descr="28"/>
          <p:cNvPicPr/>
          <p:nvPr/>
        </p:nvPicPr>
        <p:blipFill>
          <a:blip r:embed="rId1"/>
          <a:stretch/>
        </p:blipFill>
        <p:spPr>
          <a:xfrm>
            <a:off x="1403280" y="378936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29"/>
          <p:cNvPicPr/>
          <p:nvPr/>
        </p:nvPicPr>
        <p:blipFill>
          <a:blip r:embed="rId2"/>
          <a:stretch/>
        </p:blipFill>
        <p:spPr>
          <a:xfrm>
            <a:off x="5364000" y="3789360"/>
            <a:ext cx="2721240" cy="201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332000" y="321228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366880" y="32839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Cast the digester ne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259640" y="594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dis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5220360" y="5819760"/>
            <a:ext cx="2425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disassemble the vaul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stomach moul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1" descr="CONSTRUCTION MANUAL070326_页面_30"/>
          <p:cNvPicPr/>
          <p:nvPr/>
        </p:nvPicPr>
        <p:blipFill>
          <a:blip r:embed="rId3"/>
          <a:stretch/>
        </p:blipFill>
        <p:spPr>
          <a:xfrm>
            <a:off x="1403280" y="1125360"/>
            <a:ext cx="2697120" cy="2019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CONSTRUCTION MANUAL070326_页面_34"/>
          <p:cNvPicPr/>
          <p:nvPr/>
        </p:nvPicPr>
        <p:blipFill>
          <a:blip r:embed="rId4"/>
          <a:stretch/>
        </p:blipFill>
        <p:spPr>
          <a:xfrm>
            <a:off x="5364000" y="1125360"/>
            <a:ext cx="2697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IMG2491"/>
          <p:cNvPicPr/>
          <p:nvPr/>
        </p:nvPicPr>
        <p:blipFill>
          <a:blip r:embed="rId1"/>
          <a:stretch/>
        </p:blipFill>
        <p:spPr>
          <a:xfrm>
            <a:off x="1116000" y="260280"/>
            <a:ext cx="2922480" cy="219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IMG2493"/>
          <p:cNvPicPr/>
          <p:nvPr/>
        </p:nvPicPr>
        <p:blipFill>
          <a:blip r:embed="rId2"/>
          <a:stretch/>
        </p:blipFill>
        <p:spPr>
          <a:xfrm>
            <a:off x="5148360" y="260280"/>
            <a:ext cx="2911320" cy="218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116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Build the inlet and outl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76720" y="256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Install the gas hol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2125080" y="6332400"/>
            <a:ext cx="46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Install the gas pipe system and the appli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3" descr="户用型 拷贝"/>
          <p:cNvPicPr/>
          <p:nvPr/>
        </p:nvPicPr>
        <p:blipFill>
          <a:blip r:embed="rId3"/>
          <a:stretch/>
        </p:blipFill>
        <p:spPr>
          <a:xfrm>
            <a:off x="1979640" y="2997360"/>
            <a:ext cx="6121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99080" y="414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st of the technical requirements for the bui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58920" y="1125360"/>
          <a:ext cx="7021440" cy="5181840"/>
        </p:xfrm>
        <a:graphic>
          <a:graphicData uri="http://schemas.openxmlformats.org/drawingml/2006/table">
            <a:tbl>
              <a:tblPr/>
              <a:tblGrid>
                <a:gridCol w="1725480"/>
                <a:gridCol w="3267000"/>
                <a:gridCol w="202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craf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understand bluepri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ild by hand depending on the  blueprints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build the ar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(build by h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gas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water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ining peri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3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5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 to become a proficient bui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one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ment of the people to be 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educated, strong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Educat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，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ccess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96"/>
          <p:cNvSpPr/>
          <p:nvPr/>
        </p:nvSpPr>
        <p:spPr>
          <a:xfrm>
            <a:off x="0" y="524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934640" y="7866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of the construction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79640" y="2060640"/>
          <a:ext cx="6048360" cy="3200400"/>
        </p:xfrm>
        <a:graphic>
          <a:graphicData uri="http://schemas.openxmlformats.org/drawingml/2006/table">
            <a:tbl>
              <a:tblPr/>
              <a:tblGrid>
                <a:gridCol w="2087640"/>
                <a:gridCol w="1728720"/>
                <a:gridCol w="223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struction of the concrete digest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working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 not 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irtight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king procedu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not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1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High gas production rat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been proved that the gas production rate of PUXIN biogas plant is over 50% higher than that of 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traditional fixed dome biogas plant in average under the same cond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IMOR LESTE a 10m3 PUXIN biogas plant with three 1.2m3 gasholders can produce enough gas for three famil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he president of TIMOR LESTE is visiting a PUXIN biogas plant built in TIMOR LEST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Budhy Pict Guico (117)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1) Introduction of PUXIN Biogas Plant technolog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novate the traditional fixed dome  biogas plant, Shenzhen Puxin Science&amp; Technology Co., Ltd, through many year’s study developed a new generational hydraulic biogas Plant-the PUXIN Biogas Plant that has carried on almost all the advantages of the traditional fixed dome biogas plant, and overcome its main disadvan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2012, PUXIN biogas plant has been extended to over 50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Easy to maintain</a:t>
            </a:r>
            <a:br>
              <a:rPr sz="40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The leak of the gas-holder can be found immediately, and can be repaired on ground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4" descr="tu_00029"/>
          <p:cNvPicPr/>
          <p:nvPr/>
        </p:nvPicPr>
        <p:blipFill>
          <a:blip r:embed="rId1"/>
          <a:stretch/>
        </p:blipFill>
        <p:spPr>
          <a:xfrm>
            <a:off x="838080" y="2448000"/>
            <a:ext cx="39261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u_00030"/>
          <p:cNvPicPr/>
          <p:nvPr/>
        </p:nvPicPr>
        <p:blipFill>
          <a:blip r:embed="rId2"/>
          <a:stretch/>
        </p:blipFill>
        <p:spPr>
          <a:xfrm>
            <a:off x="4919760" y="2448000"/>
            <a:ext cx="3925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181880" y="76392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ast of the maintenan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697040"/>
          <a:ext cx="7632720" cy="4175280"/>
        </p:xfrm>
        <a:graphic>
          <a:graphicData uri="http://schemas.openxmlformats.org/drawingml/2006/table">
            <a:tbl>
              <a:tblPr/>
              <a:tblGrid>
                <a:gridCol w="2308320"/>
                <a:gridCol w="2228760"/>
                <a:gridCol w="30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gas leak of gas-holde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 and diffic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inside the biogas digester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k can not be foun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 and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on ground, there is no possibility of poisoning. The leak can  be seen, and can be mended  directl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water leak of the diges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 outlet is too small that the air circulation in the digester  is bad. So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s outlet is large enough that the air circulation in the digester is good. So, there is no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4. Durabl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rete digester can last over thirty years. The glass fibre reinforced plastic gas-holder can last over ten years. When the gas-holder is worn-out, a new one can replace. So the PUXIN biogas plant can last over thirt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(2) Cost analyze of a 6m3 PUXIN biogas plant</a:t>
            </a:r>
            <a:br>
              <a:rPr sz="2400"/>
            </a:br>
            <a:r>
              <a:rPr b="0" lang="en-US" sz="1400" spc="-1" strike="noStrike">
                <a:solidFill>
                  <a:srgbClr val="ffffb7"/>
                </a:solidFill>
                <a:latin typeface="Arial Black"/>
              </a:rPr>
              <a:t>(the earth work is not included)</a:t>
            </a:r>
            <a:br>
              <a:rPr sz="18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24000" y="1413000"/>
          <a:ext cx="5400720" cy="4754520"/>
        </p:xfrm>
        <a:graphic>
          <a:graphicData uri="http://schemas.openxmlformats.org/drawingml/2006/table">
            <a:tbl>
              <a:tblPr/>
              <a:tblGrid>
                <a:gridCol w="1670040"/>
                <a:gridCol w="1930320"/>
                <a:gridCol w="935280"/>
                <a:gridCol w="865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(manpowe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ass fibre reinforced plastic Gashol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shed st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4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 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ick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×120×240mm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stic pipe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150×1800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rete bar (Φ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man day in tot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an×1 day (install the mould and cast)+2 man×1 day 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ssemble the mould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build inlet, outlet and install pipe and applianc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264"/>
          <p:cNvSpPr/>
          <p:nvPr/>
        </p:nvSpPr>
        <p:spPr>
          <a:xfrm>
            <a:off x="0" y="627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Products related to PUXIN family size biogas system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 m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fibre reinforced plastic gas-hol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appli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Steel mou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10m3 steel mould  can build 4, 6 and 10m3 PUXIN family size biogas plant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002钢模+外模"/>
          <p:cNvPicPr/>
          <p:nvPr/>
        </p:nvPicPr>
        <p:blipFill>
          <a:blip r:embed="rId1"/>
          <a:stretch/>
        </p:blipFill>
        <p:spPr>
          <a:xfrm>
            <a:off x="1835280" y="191628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2. The gas-hold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duct is one of the main components of PUXIN Biogas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top of the gas –holder there is a valve that can eliminate the atmospheric pres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a need to replace solid fermentation material like straw in the digester or to repair the digester, the gas-holder can be taken out from the digester eas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Gas-hold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Picture 3" descr="照片 014"/>
          <p:cNvPicPr/>
          <p:nvPr/>
        </p:nvPicPr>
        <p:blipFill>
          <a:blip r:embed="rId1"/>
          <a:stretch/>
        </p:blipFill>
        <p:spPr>
          <a:xfrm>
            <a:off x="5364000" y="4149720"/>
            <a:ext cx="3029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题-1 拷贝"/>
          <p:cNvPicPr/>
          <p:nvPr/>
        </p:nvPicPr>
        <p:blipFill>
          <a:blip r:embed="rId2"/>
          <a:stretch/>
        </p:blipFill>
        <p:spPr>
          <a:xfrm>
            <a:off x="3203640" y="278136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储气罩GASHOLDER"/>
          <p:cNvPicPr/>
          <p:nvPr/>
        </p:nvPicPr>
        <p:blipFill>
          <a:blip r:embed="rId3"/>
          <a:stretch/>
        </p:blipFill>
        <p:spPr>
          <a:xfrm>
            <a:off x="468360" y="14130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Biogas appliance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st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water 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rice cook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la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pipe &amp; fi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gen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stove (double burner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4" name="Picture 3" descr="图片1"/>
          <p:cNvPicPr/>
          <p:nvPr/>
        </p:nvPicPr>
        <p:blipFill>
          <a:blip r:embed="rId1"/>
          <a:stretch/>
        </p:blipFill>
        <p:spPr>
          <a:xfrm>
            <a:off x="826920" y="2205000"/>
            <a:ext cx="77457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6m3 PUXIN biogas system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图片 5" descr="6立方系统(定)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water heater (7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6" name="Picture 3" descr="DSC00031"/>
          <p:cNvPicPr/>
          <p:nvPr/>
        </p:nvPicPr>
        <p:blipFill>
          <a:blip r:embed="rId1"/>
          <a:stretch/>
        </p:blipFill>
        <p:spPr>
          <a:xfrm>
            <a:off x="2627280" y="1197000"/>
            <a:ext cx="3824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rice cooker (2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Picture 3" descr="2008221104316101[1]"/>
          <p:cNvPicPr/>
          <p:nvPr/>
        </p:nvPicPr>
        <p:blipFill>
          <a:blip r:embed="rId1"/>
          <a:stretch/>
        </p:blipFill>
        <p:spPr>
          <a:xfrm>
            <a:off x="2124000" y="1773360"/>
            <a:ext cx="518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lamp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Picture 3" descr="DSC00020"/>
          <p:cNvPicPr/>
          <p:nvPr/>
        </p:nvPicPr>
        <p:blipFill>
          <a:blip r:embed="rId1"/>
          <a:stretch/>
        </p:blipFill>
        <p:spPr>
          <a:xfrm>
            <a:off x="2016000" y="1905120"/>
            <a:ext cx="56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pipe &amp; fitting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ressur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desulfuriz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fi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flow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http://topsaving.com/en/images/b/053.jpg"/>
          <p:cNvPicPr/>
          <p:nvPr/>
        </p:nvPicPr>
        <p:blipFill>
          <a:blip r:embed="rId1"/>
          <a:stretch/>
        </p:blipFill>
        <p:spPr>
          <a:xfrm>
            <a:off x="5940360" y="2349360"/>
            <a:ext cx="1413000" cy="11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topsaving.com/en/images/b/biogas_fittings.jpg"/>
          <p:cNvPicPr/>
          <p:nvPr/>
        </p:nvPicPr>
        <p:blipFill>
          <a:blip r:embed="rId2"/>
          <a:stretch/>
        </p:blipFill>
        <p:spPr>
          <a:xfrm>
            <a:off x="485928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://topsaving.com/en/images/b/biogas%20pipe.jpg"/>
          <p:cNvPicPr/>
          <p:nvPr/>
        </p:nvPicPr>
        <p:blipFill>
          <a:blip r:embed="rId3"/>
          <a:stretch/>
        </p:blipFill>
        <p:spPr>
          <a:xfrm>
            <a:off x="637236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表面 拷贝"/>
          <p:cNvPicPr/>
          <p:nvPr/>
        </p:nvPicPr>
        <p:blipFill>
          <a:blip r:embed="rId4"/>
          <a:stretch/>
        </p:blipFill>
        <p:spPr>
          <a:xfrm>
            <a:off x="4932360" y="1844640"/>
            <a:ext cx="985680" cy="169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2007317193713850"/>
          <p:cNvPicPr/>
          <p:nvPr/>
        </p:nvPicPr>
        <p:blipFill>
          <a:blip r:embed="rId5"/>
          <a:stretch/>
        </p:blipFill>
        <p:spPr>
          <a:xfrm>
            <a:off x="4859280" y="5084640"/>
            <a:ext cx="147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iogas generator (1-5kw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products-1200-01"/>
          <p:cNvPicPr/>
          <p:nvPr/>
        </p:nvPicPr>
        <p:blipFill>
          <a:blip r:embed="rId1"/>
          <a:stretch/>
        </p:blipFill>
        <p:spPr>
          <a:xfrm>
            <a:off x="2050920" y="1916280"/>
            <a:ext cx="46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(4) Referenc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1.  East Timor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East  Timor   the biogas system composed of 10m3 Puxin family size biogas plant  and  two extra gasholders  is a very popular biogas system that provide enough biogas for three families for their daily cooking and water boil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. Aries Eddie de Alme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670-72427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almukelect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图片 5" descr="IMG_0439--"/>
          <p:cNvPicPr/>
          <p:nvPr/>
        </p:nvPicPr>
        <p:blipFill>
          <a:blip r:embed="rId1"/>
          <a:stretch/>
        </p:blipFill>
        <p:spPr>
          <a:xfrm>
            <a:off x="928800" y="2286000"/>
            <a:ext cx="260640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图形3"/>
          <p:cNvPicPr/>
          <p:nvPr/>
        </p:nvPicPr>
        <p:blipFill>
          <a:blip r:embed="rId2"/>
          <a:stretch/>
        </p:blipFill>
        <p:spPr>
          <a:xfrm>
            <a:off x="3714840" y="2286000"/>
            <a:ext cx="26715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Gh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y biogas systems composed of numbers of 10m3 PUXIN biogas plant are built for schools and  hotels to treat the sewage water and food wast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TA CONSTRUCTION ENGINEERS LIM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O. BOX K.I.A. 9329 ACCRA- GH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Mr. Kofi Ahenko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33-21-404186, 233-24-6865689/423953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X: 233-21-4041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betaconst@yaho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图片 3" descr="C:\Documents and Settings\Administrator\Application Data\Tencent\Users\253850679\QQ\WinTemp\RichOle\PUU~_ASE})N6[KA}5LJIU}W.jpg"/>
          <p:cNvPicPr/>
          <p:nvPr/>
        </p:nvPicPr>
        <p:blipFill>
          <a:blip r:embed="rId1"/>
          <a:stretch/>
        </p:blipFill>
        <p:spPr>
          <a:xfrm>
            <a:off x="3179880" y="2571840"/>
            <a:ext cx="2784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44440"/>
            <a:ext cx="84135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Nicaragu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428840"/>
            <a:ext cx="78771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xin biogas system built in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Polytechnic University of Nicaragu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o treat the food waste, the biogas for cook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50M3 Puxin biogas systems built in Juigalpa Nicaragua to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reat the slaughterhouse waste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he biogas used in a water heater using in slaughter pigs process, the Project support by UNIDO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ytechnic University of Nicaragu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Dr. Roberto A. Gonzál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249-4529, Fax 2249-9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.gonzalez@upoli.edu.n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_glezc@yahoo.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glezc@tmail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图片 3" descr="C:\Documents and Settings\Administrator\Application Data\Tencent\Users\253850679\QQ\WinTemp\RichOle\J$I$3WXQCMR3V(YJ63O2VDB.jpg"/>
          <p:cNvPicPr/>
          <p:nvPr/>
        </p:nvPicPr>
        <p:blipFill>
          <a:blip r:embed="rId1"/>
          <a:stretch/>
        </p:blipFill>
        <p:spPr>
          <a:xfrm>
            <a:off x="1143000" y="1357200"/>
            <a:ext cx="2914560" cy="1500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C:\Documents and Settings\Administrator\Application Data\Tencent\Users\253850679\QQ\WinTemp\RichOle\N9[MY`PHX[MC%N5SEL2}W$T.jpg"/>
          <p:cNvPicPr/>
          <p:nvPr/>
        </p:nvPicPr>
        <p:blipFill>
          <a:blip r:embed="rId2"/>
          <a:stretch/>
        </p:blipFill>
        <p:spPr>
          <a:xfrm>
            <a:off x="4214880" y="1428840"/>
            <a:ext cx="2457360" cy="14954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" descr="C:\Documents and Settings\Administrator\Application Data\Tencent\Users\253850679\QQ\WinTemp\RichOle\@}]ASXCCY2`UI1STD_2ZV6K.jpg"/>
          <p:cNvPicPr/>
          <p:nvPr/>
        </p:nvPicPr>
        <p:blipFill>
          <a:blip r:embed="rId3"/>
          <a:stretch/>
        </p:blipFill>
        <p:spPr>
          <a:xfrm>
            <a:off x="1285920" y="3429000"/>
            <a:ext cx="2835360" cy="1555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6" descr="C:\Documents and Settings\Administrator\Application Data\Tencent\Users\253850679\QQ\WinTemp\RichOle\I276[{R~YEQ$W[UHL{2BHKC.jpg"/>
          <p:cNvPicPr/>
          <p:nvPr/>
        </p:nvPicPr>
        <p:blipFill>
          <a:blip r:embed="rId4"/>
          <a:stretch/>
        </p:blipFill>
        <p:spPr>
          <a:xfrm>
            <a:off x="4214880" y="3429000"/>
            <a:ext cx="24130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Keny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ya Puxin Renewable Energy Co. 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irobi office: Veteran hse, 8th floor, suite 807. Along moi aven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nch office: Jopa hse, suite 2. P.O BOX 1051, 20300. Nyahurur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M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tha kagi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54727980192, Mobile: +2547036329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leijel@yahoo.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uxin@gmail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enyapuxin07@yahoo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puxinbiogaskenya.kbo.co.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图片 3" descr="F:\PHOTO\国外\肯尼亚\肯尼亚\Puxin biogas in Kenya-02.jpg"/>
          <p:cNvPicPr/>
          <p:nvPr/>
        </p:nvPicPr>
        <p:blipFill>
          <a:blip r:embed="rId1"/>
          <a:stretch/>
        </p:blipFill>
        <p:spPr>
          <a:xfrm>
            <a:off x="2214720" y="1785960"/>
            <a:ext cx="2390760" cy="1792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F:\PHOTO\国外\肯尼亚\肯尼亚\图形1.jpg"/>
          <p:cNvPicPr/>
          <p:nvPr/>
        </p:nvPicPr>
        <p:blipFill>
          <a:blip r:embed="rId2"/>
          <a:stretch/>
        </p:blipFill>
        <p:spPr>
          <a:xfrm>
            <a:off x="4786200" y="1857240"/>
            <a:ext cx="27813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0m3 PUXIN biogas system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内容占位符 3" descr="10立方系统(定).jpg"/>
          <p:cNvPicPr/>
          <p:nvPr/>
        </p:nvPicPr>
        <p:blipFill>
          <a:blip r:embed="rId1"/>
          <a:stretch/>
        </p:blipFill>
        <p:spPr>
          <a:xfrm>
            <a:off x="500040" y="2071800"/>
            <a:ext cx="8291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South Af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uxin biogas system buil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gas 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 Box 864 Muldersdrift Johannesburg 1747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tact person: Mark Tiepe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one: +27 72 445 47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biogassa.co.z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图片 3" descr="C:\Documents and Settings\Administrator\Application Data\Tencent\Users\253850679\QQ\WinTemp\RichOle\0CYU$~ZHTS37PVSRX9BL{C3.jpg"/>
          <p:cNvPicPr/>
          <p:nvPr/>
        </p:nvPicPr>
        <p:blipFill>
          <a:blip r:embed="rId1"/>
          <a:stretch/>
        </p:blipFill>
        <p:spPr>
          <a:xfrm>
            <a:off x="1214280" y="2286000"/>
            <a:ext cx="2390760" cy="17445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C:\Documents and Settings\Administrator\Application Data\Tencent\Users\253850679\QQ\WinTemp\RichOle\@O)_5TLU52NT9C18[8TCYOI.jpg"/>
          <p:cNvPicPr/>
          <p:nvPr/>
        </p:nvPicPr>
        <p:blipFill>
          <a:blip r:embed="rId2"/>
          <a:stretch/>
        </p:blipFill>
        <p:spPr>
          <a:xfrm>
            <a:off x="3714840" y="2286000"/>
            <a:ext cx="2387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. Isra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gas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rech hayam 10, Michmoret, Israel, 402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Oshik Efra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972-(0)52-3221554 Fax: +972-(0)57-95575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shik@ecogas.co.i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ecogas.co.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图片 3" descr="C:\Documents and Settings\Administrator\Application Data\Tencent\Users\253850679\QQ\WinTemp\RichOle\NX1}SVSXIAPP46BV(D_1G5P.jpg"/>
          <p:cNvPicPr/>
          <p:nvPr/>
        </p:nvPicPr>
        <p:blipFill>
          <a:blip r:embed="rId1"/>
          <a:stretch/>
        </p:blipFill>
        <p:spPr>
          <a:xfrm>
            <a:off x="1000080" y="2000160"/>
            <a:ext cx="2733840" cy="16336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C:\Documents and Settings\Administrator\Application Data\Tencent\Users\253850679\QQ\WinTemp\RichOle\5TJYG@ZI)3A6ZJAYWY{PU3A.jpg"/>
          <p:cNvPicPr/>
          <p:nvPr/>
        </p:nvPicPr>
        <p:blipFill>
          <a:blip r:embed="rId2"/>
          <a:stretch/>
        </p:blipFill>
        <p:spPr>
          <a:xfrm>
            <a:off x="3929040" y="2000160"/>
            <a:ext cx="2647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. Seneg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xin biogas system built in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E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. Louis 221,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Christophe Chesne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21-7733812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c_chesneau@yahoo.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图片 3" descr="C:\Documents and Settings\Administrator\Application Data\Tencent\Users\253850679\QQ\WinTemp\RichOle\$]4ZH(0SW2PXL(JM(H(2@YA.jpg"/>
          <p:cNvPicPr/>
          <p:nvPr/>
        </p:nvPicPr>
        <p:blipFill>
          <a:blip r:embed="rId1"/>
          <a:stretch/>
        </p:blipFill>
        <p:spPr>
          <a:xfrm>
            <a:off x="1143000" y="2071800"/>
            <a:ext cx="2023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8.WF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  sets of PUXIN family size (10m3) biogas plants  were purchased by WFP for Sudan  in 201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med Adlan, Procurement Unit, WFP Khartoum, Su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amed.Adlan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 tele: +249912153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as Dabbagh, Procurement Officer, WFP-Sudan RO, VSAT: 22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Firas.Dabbagh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, tele: +249 9121 773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mit Kumar Singh , Programme Officer , United Nations World Food Program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Darfur Area Office,  North Darfur,Sudan , Mobile- 00249 9123178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mit.Singh@wfp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. UNID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family size biogas system formed by 2 sets of 10m3 biogas plant and 2 extra gas holders were purchased by UNIDO for Armenia in 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. Victor Afyan, Apt.16,Charents, Block,15, Avan, Yerevan, 0060, 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vafyan@contact-a.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l: (374)-98-411-4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. Gillian OCAMPO-GOETZLING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G.Ocampo-Goetzlinger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DRAECK, Mark'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M.Draeck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LOV, Alexand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Orlov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ONYAN, Anahi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Simonyan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tact u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the interest please conta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nzhen Puxin Technology Co.Lt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: 2nd floor, Bldg 4, 49 Jiaoyu North Rd, Gaoqiao District, Pingdi Street, Longgang, Shenzhen, P. R.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Code: 518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86-755-28938251  86-755-2893825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86-755-8932398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JW@puxinte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 www.puxintech.com 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Thanks!</a:t>
            </a:r>
            <a:br>
              <a:rPr sz="48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Keny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2008322114344769"/>
          <p:cNvPicPr/>
          <p:nvPr/>
        </p:nvPicPr>
        <p:blipFill>
          <a:blip r:embed="rId1"/>
          <a:stretch/>
        </p:blipFill>
        <p:spPr>
          <a:xfrm>
            <a:off x="1116000" y="472428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08322114329324"/>
          <p:cNvPicPr/>
          <p:nvPr/>
        </p:nvPicPr>
        <p:blipFill>
          <a:blip r:embed="rId2"/>
          <a:stretch/>
        </p:blipFill>
        <p:spPr>
          <a:xfrm>
            <a:off x="1116000" y="1268280"/>
            <a:ext cx="2543040" cy="336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008322114338984"/>
          <p:cNvPicPr/>
          <p:nvPr/>
        </p:nvPicPr>
        <p:blipFill>
          <a:blip r:embed="rId3"/>
          <a:stretch/>
        </p:blipFill>
        <p:spPr>
          <a:xfrm>
            <a:off x="6012000" y="1341360"/>
            <a:ext cx="228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gas Puxin village project SS"/>
          <p:cNvPicPr/>
          <p:nvPr/>
        </p:nvPicPr>
        <p:blipFill>
          <a:blip r:embed="rId4"/>
          <a:stretch/>
        </p:blipFill>
        <p:spPr>
          <a:xfrm>
            <a:off x="406728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Ghan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200832211438838"/>
          <p:cNvPicPr/>
          <p:nvPr/>
        </p:nvPicPr>
        <p:blipFill>
          <a:blip r:embed="rId1"/>
          <a:stretch/>
        </p:blipFill>
        <p:spPr>
          <a:xfrm>
            <a:off x="826920" y="1341360"/>
            <a:ext cx="238140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8322114629550"/>
          <p:cNvPicPr/>
          <p:nvPr/>
        </p:nvPicPr>
        <p:blipFill>
          <a:blip r:embed="rId2"/>
          <a:stretch/>
        </p:blipFill>
        <p:spPr>
          <a:xfrm>
            <a:off x="3851280" y="1268280"/>
            <a:ext cx="1469880" cy="165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08322114718395"/>
          <p:cNvPicPr/>
          <p:nvPr/>
        </p:nvPicPr>
        <p:blipFill>
          <a:blip r:embed="rId3"/>
          <a:stretch/>
        </p:blipFill>
        <p:spPr>
          <a:xfrm>
            <a:off x="5724360" y="1268280"/>
            <a:ext cx="216396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50+M3+PUXIN+BIOGAS+PLANT+WITH+GAS+AND+WATER+PURIFICATION+DEVICES+FOR+COLLEGE+HOSTEL+IN+TEMA"/>
          <p:cNvPicPr/>
          <p:nvPr/>
        </p:nvPicPr>
        <p:blipFill>
          <a:blip r:embed="rId4"/>
          <a:stretch/>
        </p:blipFill>
        <p:spPr>
          <a:xfrm>
            <a:off x="4427640" y="3213000"/>
            <a:ext cx="3529080" cy="265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5"/>
          <p:cNvPicPr/>
          <p:nvPr/>
        </p:nvPicPr>
        <p:blipFill>
          <a:blip r:embed="rId5"/>
          <a:stretch/>
        </p:blipFill>
        <p:spPr>
          <a:xfrm>
            <a:off x="755640" y="3068640"/>
            <a:ext cx="35226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mily size PUXIN biogas plants in construction Spai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DAVE &amp; JOSEPH"/>
          <p:cNvPicPr/>
          <p:nvPr/>
        </p:nvPicPr>
        <p:blipFill>
          <a:blip r:embed="rId1"/>
          <a:stretch/>
        </p:blipFill>
        <p:spPr>
          <a:xfrm>
            <a:off x="826920" y="1844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LENADO"/>
          <p:cNvPicPr/>
          <p:nvPr/>
        </p:nvPicPr>
        <p:blipFill>
          <a:blip r:embed="rId2"/>
          <a:stretch/>
        </p:blipFill>
        <p:spPr>
          <a:xfrm>
            <a:off x="4427640" y="1916280"/>
            <a:ext cx="33955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in construction in South Afric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iogaSA 088"/>
          <p:cNvPicPr/>
          <p:nvPr/>
        </p:nvPicPr>
        <p:blipFill>
          <a:blip r:embed="rId1"/>
          <a:stretch/>
        </p:blipFill>
        <p:spPr>
          <a:xfrm>
            <a:off x="971640" y="19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iogaSA 122"/>
          <p:cNvPicPr/>
          <p:nvPr/>
        </p:nvPicPr>
        <p:blipFill>
          <a:blip r:embed="rId2"/>
          <a:stretch/>
        </p:blipFill>
        <p:spPr>
          <a:xfrm>
            <a:off x="4788000" y="321300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A.</a:t>
            </a:r>
            <a:r>
              <a:rPr b="0" lang="zh-CN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e structur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8150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XIN Biogas Plant is mainly composed of a concrete digester and a glass fibre reinforced plastic gas-hold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6CBM5 拷贝"/>
          <p:cNvPicPr/>
          <p:nvPr/>
        </p:nvPicPr>
        <p:blipFill>
          <a:blip r:embed="rId1"/>
          <a:stretch/>
        </p:blipFill>
        <p:spPr>
          <a:xfrm>
            <a:off x="2411280" y="2060640"/>
            <a:ext cx="408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7-29T06:46:45Z</dcterms:modified>
  <cp:revision>240</cp:revision>
  <dc:subject/>
  <dc:title>PowerPoint Presentation</dc:title>
</cp:coreProperties>
</file>